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wmf" ContentType="image/x-wmf"/>
  <Override PartName="/ppt/media/image10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1F3-3BEE-43A5-A075-2876E59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1C2-199B-44B9-95F1-9A6E485B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93D1-0AAC-439B-A8EF-D213375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BEA89-71E8-4B86-9224-BAF86CB2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09F73-DCA1-4848-A6F5-1E7B42CA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7137C-D224-4DBB-9CCC-C8C24E5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B7368-2CE0-4597-89D7-222794C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DE68F-1D99-4328-88C2-9655E56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07BBF-B278-458E-8FA5-58EA116D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C759F-F386-4887-92B3-AF3FF7F1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6893C-4842-42E8-9F91-3239024D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98C62-5265-47AD-9DA8-BA3D5D7A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A85-C2CF-447D-A559-7AC08481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0A13A-4770-4A7F-A4F1-3488205A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15F94-42EE-4D9A-9D17-A656766D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16A3D-DD80-4921-8A5A-DB7BA8E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2E7E4-399E-4675-AF1B-B1F2073E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4527D-083F-4AA0-A53D-FE3B5D1F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AA2CB-1C73-4B92-8D62-05A0F545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5D3A2-AE23-41C3-9B0D-0A2C199D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D714E-BB11-49D7-8E37-D61D588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B351C-1142-4EEA-B744-F7FC229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B336B-5C62-45E3-8775-3A3D9AAC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372-39C3-4E39-8D54-B46A34B0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8DFD3-A887-4EE1-BF4C-302A20D5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44BE0-CFF9-410C-AE81-C6AC0509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9CF5C-715C-49D8-81BD-41DC1934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BFD4-132B-4739-BF0E-EE03289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A218E-73AB-47F1-94D5-1B127743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3C4E7-4D36-46F3-95BB-B1B77FB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7BEEC-6C3D-430B-959C-4C49F0E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080DB-D6D2-4E3B-B606-644FE83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EA03C-052D-45F3-9C1E-83208A3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55AC-013C-4AB5-8044-C65C045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5FFC-8356-422C-B9E3-1999940D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96A77-46B3-4BC6-8D0B-46304E2F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DBE0-3FFD-4011-B3D9-005B733B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252D5-B1ED-41D7-A204-8408D8A9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C89FF-FD7B-4727-8030-4AD159C1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15055-EBA7-4229-988C-0E7DFD03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24B7-7169-4E19-811F-8C76E3FE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A118E-4A8E-4936-9168-B04EFD9A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F1C26-3F69-4B42-84DC-919A45E9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E2F30-19CD-44F2-A59E-683B545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841D3-E251-4209-9954-C1A15CA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4E8F-BE7C-4FE2-8FC0-E0BAA700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FC25A-B6C3-4FA4-95D3-068B0624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4EC66-28C2-4749-887D-9E3910DA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4AAC2-9827-4015-9A08-39436B5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2E378-90CA-440F-91E7-D265FA6C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27BF3-2DAF-403A-9C19-479E9699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5102-F346-46D9-B1D8-8ED0D69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F406-2C43-403D-92EB-1C7F1EDC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5B92-2E1C-4438-A5B7-A4AB6BA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3B9F-6CE7-48EB-AE78-8D9381A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9B23-8445-45C2-8F0F-295D928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5FC-8D71-4C68-BF8E-BC6259D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389D-F4D4-4BCC-8221-8A3DD56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0546-8F8E-40A6-8814-6971E8E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4CA5-EA6A-49BF-A21E-330960A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17F-8B5C-485A-8F91-7DAB254C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7B25-4E98-4B5E-A37F-EB52B4BF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C836-B7C7-43CE-A96D-B3587D6D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64A8-B76B-42DF-A68A-C1684CB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870E-0D4E-45C8-928D-0950C84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5B56-5894-4B28-AFB8-D2797DB4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D0A4-37B9-4328-BFF7-A74C6AB7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651-DA2A-4EE7-8906-07FE96E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CDF9-A907-4E24-B104-F958E642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3292-2392-4692-BB10-E78527F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1699-B63F-4F84-8A78-D14653C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672A-9676-453D-9B12-04187BE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C9ED-E4CA-4416-A8CD-C83D4AD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7687-4916-49AF-8171-6DFD475C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9CA4-DE96-435B-998C-9B52F044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6D9A-7F80-4610-9705-61F5D5DF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898E-79A1-440F-B04C-DB0D6E70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BC50-B677-4A63-92B3-8B7C05C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40B-6CC6-43AE-9BAA-5822FEC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8D12-F96C-4EE0-B9E4-1453A24F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8BD6-FCC1-4F97-9FF2-E4FAF56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90A6-AFCB-49DD-8BA9-3F7E15CF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CF57-3BC9-4962-80DE-7CF031D1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9437-969C-46A0-AEF4-E116A57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20F3-6913-4528-8C64-2CACF5A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A5DF-27E5-46D2-BF6C-9A6B1693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C5EA-5979-4BDD-A2FF-13D652BC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4371-35C1-442E-84E7-7360FFA9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1228-C8E7-4FB2-A2FD-CB9114AF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395-47C5-436E-8156-B649EE3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9B9C-938B-4451-8A46-A7669B52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E0FE-CC7D-4308-9D71-6AD5E1D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B513-8FDC-41AF-816F-08DC2482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A10E-E7B4-4FC0-B8B6-E2D8C137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25C6-E738-417F-839B-69490326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F82F2-BEF0-47F1-92DA-97F253F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B9A3-5391-4460-80FD-E67ACE0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C24A-5E66-49EB-94F1-D52045A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FB7C6-77DF-42A2-A546-97DF9E3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E058-029F-405D-AEEA-D9450B1C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12B-AC3D-446B-A04E-78D9E9D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19F5-37BF-4D88-B27F-0C89F653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9E29-28E3-40F0-92E7-42DC8727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436A-BCE7-4944-8183-7C12A94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5F64-0DA3-4772-812A-3C8AA5A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8236-F3AE-400B-B7B5-B828325B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B6D33-D172-4C8F-9809-988CA3DA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8918D-4E76-4657-A503-7DAFF02D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5960-1566-4F0E-B513-4024C4B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E291-1B35-41A4-A5E3-5441BAE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D5DE-16A8-40AB-B079-6B94CB4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99C-5881-48AF-A66A-28DAF93C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84AC1-3FAB-409A-8F01-DA2C3BD4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764D-25CE-4A50-8000-37C10D87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CCA6-FF51-4EE1-B890-2F10A2B4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C5B4D-61AC-49C5-9399-3B3B36A9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E1D9-6030-4D5F-8070-401DBC8B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850A3-A83A-4A89-9C94-6E230342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2580-6810-454C-9F0B-E97181FB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7084-44B0-4872-BD5B-6AD81502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AF0C-DFA8-44BA-84FE-68DAB30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BA4CB-EEE8-4E5E-92F1-051596F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C46-F023-4DEE-9522-8BD7710A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679E-045D-4AB6-B699-3442D0C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2C38-E6AA-4610-BD96-7B9C45A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ED2F-BFD5-4BA7-9F84-B96B163D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4650D-9D0F-475B-86F5-4FA6AB9C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6D08-40B0-4040-B5B2-899579DA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5D7F8-DA3F-4298-A678-29DC1C32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75C9-F36D-4AC4-97F0-F0C9F5C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D05E-6CDC-4A93-9633-7AC8D7F6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5FFE-BFF4-4017-BDE1-0A23006C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4467B-D5A8-4330-8E64-8FEBAF5E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611-1EAE-47BA-8491-E1CF45D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F2F4E-1413-4C50-A0FE-F0ED6BF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16A3-9C0C-4B25-9FF1-348F60B7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352D7-A11A-4BDC-9132-F89A016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5ED4-567E-43CC-A375-5502580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164E-201E-400C-8A4B-1A23AF81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B640-303F-406A-A221-B4A58DED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4EE52-15EA-4F0E-A4BF-145573A9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9191-8EDC-4E78-9F95-A5265EF4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AD8C8-B294-457A-90AE-42E9EFF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CB815-78BD-4F36-8984-963994BF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5B53-D6CF-4732-97EF-1FEF0A5C8EF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8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782-A2C0-4CC1-B42B-1244860657B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A555-DA4A-4AFC-8B92-A37747EAA4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3899-F24B-4742-99B6-BE34F70C24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A3F-2A93-400D-BB90-7575EF930AB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59E-06DF-471A-AACD-1FEDECD9F8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6854-39E9-4B35-B4B3-B1CC46E4D2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0EC-E342-4BB2-8502-EF9E54CBA1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5BDB-01CE-4848-86D8-D7D34EC6E5E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194-AB02-440C-B141-D32DB07DCB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EF76-3925-46FE-AAA8-3EF8EF3A28A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5" name="Slika 6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35D-9307-4B47-80BD-5FB2A91FF5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T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4"/>
          <p:cNvSpPr/>
          <p:nvPr/>
        </p:nvSpPr>
        <p:spPr>
          <a:xfrm>
            <a:off x="380880" y="1447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po dubokom snijegu lakše krećeš na skijama nego pješ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neki građevinski strojevi imaju gusjenice umjesto kotač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32958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4"/>
          <p:cNvSpPr/>
          <p:nvPr/>
        </p:nvSpPr>
        <p:spPr>
          <a:xfrm>
            <a:off x="0" y="1143000"/>
            <a:ext cx="79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o opeka u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440000" y="4952880"/>
            <a:ext cx="6405120" cy="11912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z istu silu učinak je to veći što je 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a na koju sila djelu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2743200" y="2163600"/>
            <a:ext cx="4046400" cy="2289240"/>
          </a:xfrm>
          <a:prstGeom prst="rect">
            <a:avLst/>
          </a:prstGeom>
          <a:ln w="0">
            <a:noFill/>
          </a:ln>
        </p:spPr>
      </p:pic>
      <p:pic>
        <p:nvPicPr>
          <p:cNvPr id="524" name="Slika 5" descr=""/>
          <p:cNvPicPr/>
          <p:nvPr/>
        </p:nvPicPr>
        <p:blipFill>
          <a:blip r:embed="rId2"/>
          <a:stretch/>
        </p:blipFill>
        <p:spPr>
          <a:xfrm>
            <a:off x="228600" y="115884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-31680" y="127944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o opeka u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1570680" y="4952880"/>
            <a:ext cx="6145920" cy="11912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jelovanje sile preko jednake površ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je veće što je sila ve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68840" cy="2895840"/>
          </a:xfrm>
          <a:prstGeom prst="rect">
            <a:avLst/>
          </a:prstGeom>
          <a:ln w="0">
            <a:noFill/>
          </a:ln>
        </p:spPr>
      </p:pic>
      <p:pic>
        <p:nvPicPr>
          <p:cNvPr id="528" name="Slika 5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13575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72072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Tlak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500040" y="12142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jelovanje sile na podlogu opisujemo fizikalnom veličinom koju naziva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4572000" y="2895480"/>
                <a:ext cx="3411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la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loština površin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TextBox 3"/>
          <p:cNvSpPr/>
          <p:nvPr/>
        </p:nvSpPr>
        <p:spPr>
          <a:xfrm>
            <a:off x="3808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 označujemo 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990720" y="4419720"/>
                <a:ext cx="1539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TextBox 3"/>
          <p:cNvSpPr/>
          <p:nvPr/>
        </p:nvSpPr>
        <p:spPr>
          <a:xfrm>
            <a:off x="3048120" y="4419720"/>
            <a:ext cx="563868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 je 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ličn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komite 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ovršinu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ošt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te površ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manometar"/>
          <p:cNvPicPr/>
          <p:nvPr/>
        </p:nvPicPr>
        <p:blipFill>
          <a:blip r:embed="rId1"/>
          <a:stretch/>
        </p:blipFill>
        <p:spPr>
          <a:xfrm>
            <a:off x="6019920" y="1295280"/>
            <a:ext cx="2609640" cy="2610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Jedinica tl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643200" cy="22860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4"/>
          <p:cNvSpPr/>
          <p:nvPr/>
        </p:nvSpPr>
        <p:spPr>
          <a:xfrm>
            <a:off x="497880" y="3962520"/>
            <a:ext cx="73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askal  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tl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zvana u čast francuskog fizičar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lai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a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1905120" cy="127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6534720" y="3995640"/>
            <a:ext cx="18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nometar – sprava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jerenje tlaka zra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2"/>
          <p:cNvSpPr/>
          <p:nvPr/>
        </p:nvSpPr>
        <p:spPr>
          <a:xfrm>
            <a:off x="344880" y="1523880"/>
            <a:ext cx="8078040" cy="1099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im tlakom kvadar težine 12 N djeluje na pod ako je plošt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ranice na kojoj on leži 6 cm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1143000" y="2743200"/>
            <a:ext cx="4419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2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6 cm² = 0,0006 m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 12 N / 0,0006 m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20 000 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Slika 1" descr=""/>
          <p:cNvPicPr/>
          <p:nvPr/>
        </p:nvPicPr>
        <p:blipFill>
          <a:blip r:embed="rId1"/>
          <a:stretch/>
        </p:blipFill>
        <p:spPr>
          <a:xfrm>
            <a:off x="304920" y="101448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2"/>
          <p:cNvSpPr/>
          <p:nvPr/>
        </p:nvSpPr>
        <p:spPr>
          <a:xfrm>
            <a:off x="340200" y="1523880"/>
            <a:ext cx="77886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najući svoju težinu i odredivši ploštinu stopala, izračunaj tl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m tvoja stopala pritišću pod. Usporedi ga s tlakom na p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 stojiš na jednoj noz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611360" cy="657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30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268560" y="1676520"/>
            <a:ext cx="8273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mjerna jedinica za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emu je mjerna jedinica paskal jedn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tlak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zračunaj tlak kojim dječak težine 450 N djeluje na pod ako 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loština njegovih stopala 360 cm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Slika 1" descr=""/>
          <p:cNvPicPr/>
          <p:nvPr/>
        </p:nvPicPr>
        <p:blipFill>
          <a:blip r:embed="rId1"/>
          <a:stretch/>
        </p:blipFill>
        <p:spPr>
          <a:xfrm>
            <a:off x="200160" y="914400"/>
            <a:ext cx="3101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6:26Z</dcterms:modified>
  <cp:revision>63</cp:revision>
  <dc:subject/>
  <dc:title>Slide 1</dc:title>
</cp:coreProperties>
</file>